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569A-C0B0-4671-9DE3-DF08858CF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38F6-BDA7-45E5-B82A-F8461A81ECB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73B8-D1CB-4395-8215-2359C7FFEE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700F-1038-4C35-ACC9-03E9EC0B928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5371-770A-4377-8ACE-EA81F54035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334D-21A9-4FD7-BFF8-71D1D667D1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962F-820F-461A-BCAA-F49199137F2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0ADB-26C0-46F9-BBA2-4AF4BD47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B034-FE39-48D8-8A53-FC2E213A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0251BD-7DA3-4A3D-9D07-EBA81E90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D6E8C8-FF59-4C82-93DE-13657404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1707FA-21D1-45A9-BE81-C95D2C1B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9761A6-603C-4F96-B91B-F1800AC1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408EB7-FBE7-4AED-B7A9-509E5852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CFB2E4-0284-46E5-B28F-5E71E92A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2A5B7A-E2F7-4BDC-ADFB-C7341B35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9A3671-BF37-4DC2-9112-C6962535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D28B8B-0D52-42C6-ACBF-BACA5A23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C1279E-849F-4C93-B6DB-CF04CE8B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1602-9BFC-4D56-B20D-722CC89B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A3C393-930C-4C93-A593-99AF3A27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D6135C-61E4-4E84-A42D-7833DA4C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9A41BE-FF14-437C-9AB9-FB085428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90C82E-0410-4F4D-86E9-51964E6C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1800E3-3BDF-46C6-A700-1E0F5AE2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FC1EE5-4028-4A15-B369-08FD74E4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83DD57-108A-4295-B0BF-BDE21DB0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FE53F7-331F-4888-98CD-AD673E22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102551-BD69-41B2-BD36-3A3806B7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5E9A30-83E7-4F16-B150-F5D8DBF0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80AE-6085-41E4-82DD-1838DF67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536BC4-1AC3-4411-8CCE-CF338F09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D61FF-00ED-4C83-9EBF-C58E608B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F49FF-89EB-4648-AF94-A755C7DB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02D23-D773-445F-B94B-8775E699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4A9E3-AF4B-40F7-B935-3114BCC3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816CA-09EB-4080-8F91-8E87ACDD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70BB6-E629-45E3-BC9A-E11FF180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C47FB-9D84-4FA3-9D62-58194C1D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C8ADF-0549-4790-851A-0BF048A9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E4E6D-BF8C-4588-A1FC-1BE6753D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74D17-170B-4E34-BBC7-9A3BBC7C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42EF9-B47D-42E4-957D-EE828817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30E6A-D4AF-44BA-BAAC-03445FB2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2AC6C-7C3B-45F7-A5D0-41A04843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52F7B-BCBF-40E3-99CF-57DE76C8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4348A-FAAC-4694-A8DE-1A60318F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10511-57D1-46A2-9ED5-33993580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23917-5D83-455E-9871-1EC59487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7646B-5B9A-47B7-A5D4-FC584802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9CB58-6831-4B2B-85E5-52E2194D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294C8-D15F-48E1-9CB0-0F42DF38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BA74C-AA06-4F99-996F-F6EF9FC8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A3C31-8F0A-41CF-BF25-A198081E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B6BCC-9A9F-4741-90A6-F3AEBB21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D1008-DF28-41AD-90C0-A9E4F5AF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D9169-443E-4944-9AC0-A2E9A9E7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0F3B5-C42A-4727-A921-00E0381B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C9ACA-051F-4D8A-958C-BF7A25FA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C4D0B-6DB2-40E6-B29A-BAC038FA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8CB73-64EF-45A8-8B50-8EF5A7C2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DA47B-E297-4DE3-B87E-6EB8E75F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C1B26-7CD4-42E2-9F20-339232C7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E53E-8561-4C76-9609-CE506D5A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93E3F-919E-4643-ADD5-8B80CFEA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574FD-B8D8-4F7C-9807-AF6ABDC3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D81FF-DA62-494E-8A08-EEC116F0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44EAF-0939-4486-9814-C0469BC2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A85EC-46D1-46A3-AFF3-73892789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9B9B6-2E58-48D1-B666-DCFC972B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0AF69-E492-405D-8A0B-91BF3380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7A8625-26EF-4512-8BCF-4ECCD668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A6140C-0F59-49CF-895F-E189AD73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111320-4131-490B-B877-E8C83E2B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F0E9-7798-4695-97A2-9D07AB8D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3705EC-B269-4BC3-927B-41A25BEE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D5B50C-C19D-4F49-9083-F2E53AAE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556ACB-398B-4344-BBCA-CBC5AB43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030B1-ED98-4E2C-87CC-52628C69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FAFEB-99CD-4A6D-A42D-25EA4D40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C5E9A-BB54-46C0-8634-3B2FBA8F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27D3A4-FE3A-4FC0-9BA4-1358E7CF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8D99D8-6885-4B9F-9384-022795DC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86DCF7-1B44-4037-A43D-184B967B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52BA7C-A753-4CA6-8FCE-9F8A1573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76F0-455A-4399-B333-12E8AF9A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35E3F8-E205-4563-B298-78F54DD7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E27929-13CB-40ED-B007-A839E1F3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BD7755-1180-47CB-B785-9E17BA86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CFF500-8244-4FE9-A81F-3FF01350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5E959D-271A-493C-B1B6-FA5F6897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C75914-5D38-439F-AF49-A8C479A3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4592BE-9C14-4855-A966-6B8267D1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7FCEF8-DFBE-4922-BF1D-4CBA2A21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A33A51-F725-4015-B73F-6A01166E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51A187-ADFA-4B35-A9C7-5EBB7A92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B51-17AE-47E1-A051-421138B6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3D5545-7F5A-4181-A71F-4584573D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AFA140-9F9A-409C-9CCD-6EE6BAEB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E4B2E9-A91E-49EC-8BFA-FE78D20A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38E0AB-99F8-4846-93B1-0111FBCC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42B64C-BFDF-4790-94DC-CBFF13AB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E9CD8-C263-473D-BAEA-F31D720D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5A29B3-72C7-49EB-A97A-54A8B520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9CCAC6-B6D6-4BF6-BBCD-02417AF0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605F75-98D7-4A7A-B2C3-3089FE2F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FA6775-7DC2-44D5-8843-CBE9F74A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498-FD7B-43CE-BA0A-7DD0D7B5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4BE6E4-D292-47BF-B621-98E4A106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3DA66C-9859-4E86-A9C6-579B76C4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24EE9E-C890-4614-94DD-37AAC2D6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3A09CE-FA08-41F3-AFAD-E6A6B994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3609C7-1684-4591-8257-D6168E86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B746CC-8E49-4DDD-A0FB-26290F1F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1131F8-A911-44E2-AAAA-C1E0536B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9158ED-DE59-4ED8-86E2-0409F188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FF5D83-2222-45BD-B10C-8AD0891B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403B3-EA50-4B9E-9017-408D99F1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AE64-C670-4DD8-A900-0D503859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215630-9AF0-4952-AC44-9F67EC4E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18F8B1-BE83-40B5-9063-CD757EAE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2EA54D-9D78-4F43-A4E6-29A7DFD1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9458B2-94B2-4257-8D47-6135B114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EE20C2-87FC-45C2-9411-86871C50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36406F-7E5B-4B9D-A673-0D8596C6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3928E3-F13C-4C0F-A04A-D0F9711E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7EF93D-E8E0-431D-86EF-A22121D1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ABE11A-87C0-47B7-9120-96CDEFC5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12C66C-0019-4891-88BB-6A9A6B0F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C0BB-DAF1-4864-8145-85EC97C3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876BFE-69D3-43CE-B1AC-A8F819F7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891713-08EA-45CC-B238-F3A21D35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7667F1-98EA-430D-9895-98E623E7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7FCC6C-FCA3-45EE-BDC6-3285E9AE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6FA42F-6EA3-4B6E-B9C1-A820CBE4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FD70F5-CD63-4A4C-9930-8ADBE1BB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F3802F-FDD7-41E8-927B-46B094E0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8806BD-6273-4E22-8EB0-5D402FA9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A52241-020B-46BE-9765-78A22B24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9158F1-57E5-438F-88A2-D3711CF1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841E-7BC7-4386-93A5-0F70B134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EE57DD-9445-4BB7-8E77-F8D9AB2D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E49B4D-C2C4-4C77-9616-5B61948B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D3C86A-4297-4AC0-9985-FE468330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12607A-C3FF-400B-B531-519C8BEA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FD4750-7460-400D-94D4-7DD9D331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30F6E7-95A2-4AC2-8EC1-FC8AE366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E5B352-EA76-4493-912A-B81179B5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79ADF9-A7AB-4FC0-9617-50BC12D4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6112B2-7BC1-438F-9568-056C71D2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BE6810-6EDD-4CD7-A60C-F575ADDB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2731-4274-4A69-8B9E-77282C1C053E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e6e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Straight Connector 8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9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0850-5908-40D4-BBD7-37C4E8B20B65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30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e6e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7C13-45B1-4955-9206-4604C0784C79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e6e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2449-0E43-4EF6-AC72-EFC5D56914A2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4743360"/>
            <a:ext cx="9144000" cy="211464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0" y="4714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857F-470B-4478-8E24-C8DDAF05BA12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e6e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DB94-5C2B-43E1-8E70-2F27CA3B71A6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e6e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Straight Connector 8"/>
          <p:cNvSpPr/>
          <p:nvPr/>
        </p:nvSpPr>
        <p:spPr>
          <a:xfrm>
            <a:off x="-4680" y="182880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1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B42A-F763-488E-82BB-E6B93FC75CBF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e6e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4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0B20-B050-42AE-B644-3600D792D343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e6e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7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EBB9-23CF-48D4-B865-05A275890778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8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e6e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20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C39B-B220-45C8-A985-221164F843A5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1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e6e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B706-3D83-4A8C-9BC7-8DD2CCDA1842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4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e6e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Straight Connector 8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5461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FCF1-879C-45B5-9308-30904D14F0B9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27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Diagram 7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8321760" cy="3047760"/>
          </a:xfrm>
          <a:prstGeom prst="rect">
            <a:avLst/>
          </a:prstGeom>
          <a:ln w="0">
            <a:noFill/>
          </a:ln>
        </p:spPr>
      </p:pic>
      <p:pic>
        <p:nvPicPr>
          <p:cNvPr id="518" name="Diagram 8" descr=""/>
          <p:cNvPicPr/>
          <p:nvPr/>
        </p:nvPicPr>
        <p:blipFill>
          <a:blip r:embed="rId2"/>
          <a:stretch/>
        </p:blipFill>
        <p:spPr>
          <a:xfrm>
            <a:off x="225360" y="3438360"/>
            <a:ext cx="83217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Box 1"/>
          <p:cNvSpPr/>
          <p:nvPr/>
        </p:nvSpPr>
        <p:spPr>
          <a:xfrm>
            <a:off x="191880" y="111240"/>
            <a:ext cx="2721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b24cf"/>
                </a:solidFill>
                <a:latin typeface="Articulate Extrabold"/>
              </a:rPr>
              <a:t>Introduction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0" name="Picture 2" descr="C:\Users\Owner\AppData\Local\Microsoft\Windows\Temporary Internet Files\Content.IE5\BK0RA2J1\MC900432675[1].png"/>
          <p:cNvPicPr/>
          <p:nvPr/>
        </p:nvPicPr>
        <p:blipFill>
          <a:blip r:embed="rId1"/>
          <a:stretch/>
        </p:blipFill>
        <p:spPr>
          <a:xfrm>
            <a:off x="8308800" y="613584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21" name="TextBox 3"/>
          <p:cNvSpPr/>
          <p:nvPr/>
        </p:nvSpPr>
        <p:spPr>
          <a:xfrm>
            <a:off x="380880" y="1066680"/>
            <a:ext cx="83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24cf"/>
                </a:solidFill>
                <a:latin typeface="Verdana"/>
                <a:ea typeface="Verdana"/>
              </a:rPr>
              <a:t>Insert information her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Box 1"/>
          <p:cNvSpPr/>
          <p:nvPr/>
        </p:nvSpPr>
        <p:spPr>
          <a:xfrm>
            <a:off x="216720" y="111240"/>
            <a:ext cx="3577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b24cf"/>
                </a:solidFill>
                <a:latin typeface="Articulate Extrabold"/>
              </a:rPr>
              <a:t>Goals/Objectives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3" name="Picture 2" descr="C:\Users\Owner\AppData\Local\Microsoft\Windows\Temporary Internet Files\Content.IE5\BK0RA2J1\MC900432675[1].png"/>
          <p:cNvPicPr/>
          <p:nvPr/>
        </p:nvPicPr>
        <p:blipFill>
          <a:blip r:embed="rId1"/>
          <a:stretch/>
        </p:blipFill>
        <p:spPr>
          <a:xfrm>
            <a:off x="8377200" y="61498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524" name="TextBox 3"/>
          <p:cNvSpPr/>
          <p:nvPr/>
        </p:nvSpPr>
        <p:spPr>
          <a:xfrm>
            <a:off x="380880" y="1066680"/>
            <a:ext cx="83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24cf"/>
                </a:solidFill>
                <a:latin typeface="Verdana"/>
                <a:ea typeface="Verdana"/>
              </a:rPr>
              <a:t>Insert information her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1"/>
          <p:cNvSpPr/>
          <p:nvPr/>
        </p:nvSpPr>
        <p:spPr>
          <a:xfrm>
            <a:off x="513360" y="111240"/>
            <a:ext cx="7706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b24cf"/>
                </a:solidFill>
                <a:latin typeface="Articulate Extrabold"/>
              </a:rPr>
              <a:t>Instructional Strategies and Activities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6" name="Picture 2" descr="C:\Users\Owner\AppData\Local\Microsoft\Windows\Temporary Internet Files\Content.IE5\BK0RA2J1\MC900432675[1].png"/>
          <p:cNvPicPr/>
          <p:nvPr/>
        </p:nvPicPr>
        <p:blipFill>
          <a:blip r:embed="rId1"/>
          <a:stretch/>
        </p:blipFill>
        <p:spPr>
          <a:xfrm>
            <a:off x="8377200" y="61498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527" name="TextBox 3"/>
          <p:cNvSpPr/>
          <p:nvPr/>
        </p:nvSpPr>
        <p:spPr>
          <a:xfrm>
            <a:off x="380880" y="1066680"/>
            <a:ext cx="83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24cf"/>
                </a:solidFill>
                <a:latin typeface="Verdana"/>
                <a:ea typeface="Verdana"/>
              </a:rPr>
              <a:t>Insert information her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Box 1"/>
          <p:cNvSpPr/>
          <p:nvPr/>
        </p:nvSpPr>
        <p:spPr>
          <a:xfrm>
            <a:off x="434880" y="111240"/>
            <a:ext cx="2806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b24cf"/>
                </a:solidFill>
                <a:latin typeface="Articulate Extrabold"/>
              </a:rPr>
              <a:t>Assessments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9" name="Picture 2" descr="C:\Users\Owner\AppData\Local\Microsoft\Windows\Temporary Internet Files\Content.IE5\BK0RA2J1\MC900432675[1].png"/>
          <p:cNvPicPr/>
          <p:nvPr/>
        </p:nvPicPr>
        <p:blipFill>
          <a:blip r:embed="rId1"/>
          <a:stretch/>
        </p:blipFill>
        <p:spPr>
          <a:xfrm>
            <a:off x="8377200" y="61498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530" name="TextBox 3"/>
          <p:cNvSpPr/>
          <p:nvPr/>
        </p:nvSpPr>
        <p:spPr>
          <a:xfrm>
            <a:off x="380880" y="1066680"/>
            <a:ext cx="83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24cf"/>
                </a:solidFill>
                <a:latin typeface="Verdana"/>
                <a:ea typeface="Verdana"/>
              </a:rPr>
              <a:t>Insert information her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Box 1"/>
          <p:cNvSpPr/>
          <p:nvPr/>
        </p:nvSpPr>
        <p:spPr>
          <a:xfrm>
            <a:off x="541800" y="111240"/>
            <a:ext cx="4197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b24cf"/>
                </a:solidFill>
                <a:latin typeface="Articulate Extrabold"/>
              </a:rPr>
              <a:t>Program Evaluation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2" name="Picture 2" descr="C:\Users\Owner\AppData\Local\Microsoft\Windows\Temporary Internet Files\Content.IE5\BK0RA2J1\MC900432675[1].png"/>
          <p:cNvPicPr/>
          <p:nvPr/>
        </p:nvPicPr>
        <p:blipFill>
          <a:blip r:embed="rId1"/>
          <a:stretch/>
        </p:blipFill>
        <p:spPr>
          <a:xfrm>
            <a:off x="8377200" y="61498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533" name="TextBox 3"/>
          <p:cNvSpPr/>
          <p:nvPr/>
        </p:nvSpPr>
        <p:spPr>
          <a:xfrm>
            <a:off x="380880" y="1066680"/>
            <a:ext cx="83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24cf"/>
                </a:solidFill>
                <a:latin typeface="Verdana"/>
                <a:ea typeface="Verdana"/>
              </a:rPr>
              <a:t>Insert information her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C:\Users\Owner\AppData\Local\Microsoft\Windows\Temporary Internet Files\Content.IE5\BK0RA2J1\MC900432675[1].png"/>
          <p:cNvPicPr/>
          <p:nvPr/>
        </p:nvPicPr>
        <p:blipFill>
          <a:blip r:embed="rId1"/>
          <a:stretch/>
        </p:blipFill>
        <p:spPr>
          <a:xfrm>
            <a:off x="8377200" y="61498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535" name="TextBox 3"/>
          <p:cNvSpPr/>
          <p:nvPr/>
        </p:nvSpPr>
        <p:spPr>
          <a:xfrm>
            <a:off x="426600" y="111240"/>
            <a:ext cx="241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b24cf"/>
                </a:solidFill>
                <a:latin typeface="Articulate Extrabold"/>
              </a:rPr>
              <a:t>Conclusion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TextBox 4"/>
          <p:cNvSpPr/>
          <p:nvPr/>
        </p:nvSpPr>
        <p:spPr>
          <a:xfrm>
            <a:off x="380880" y="1066680"/>
            <a:ext cx="83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24cf"/>
                </a:solidFill>
                <a:latin typeface="Verdana"/>
                <a:ea typeface="Verdana"/>
              </a:rPr>
              <a:t>Insert information her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2T01:44:40Z</dcterms:created>
  <dc:creator>Ann M Gall</dc:creator>
  <dc:description/>
  <dc:language>en-US</dc:language>
  <cp:lastModifiedBy>Ann M Gall</cp:lastModifiedBy>
  <dcterms:modified xsi:type="dcterms:W3CDTF">2011-06-12T04:52:06Z</dcterms:modified>
  <cp:revision>18</cp:revision>
  <dc:subject/>
  <dc:title>PowerPoint Presentation</dc:title>
</cp:coreProperties>
</file>